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9223-F24E-4E01-B2FF-9AF6544740A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D1C3-7D7B-4A8C-91F9-951A6A52CB4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8A8B-8A6C-4786-88C6-71EA31D6F15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40F6-5379-4E90-9256-A5FE2A9B3F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1F9C-4DF7-47EA-9E11-935A6B09E0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C150-73BE-4B17-9E9E-8998B72416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3E43-6764-4C41-8C6F-026200CC9D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8DAE-C30E-4F65-9672-A3F39734DC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6367-F6E4-45C8-82A1-073FE3770F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27A7-8DB9-4883-8C38-DF9A1644B5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AF80-8886-403D-9C9F-369B90921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B330-E6F3-4DD3-BA7C-B157D4A22B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6879-ACD9-428E-9F84-F7AEBC0D3C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B76F-84F3-4A73-8147-84934C3BC1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2B68-EE39-4512-B493-4A04F9E75B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EBCF-56C1-4BA7-9CBA-BB824CC67E1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18A8-FE2E-4195-A442-503BD3E08C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6BF-C449-4907-AF9E-E5E47816F23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0A8D-EB49-4F34-8C4B-BBDE10DE2DF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2805-3194-4989-8871-00572ED8DB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61FA-A390-4B18-878E-D138B5CCEC7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AF4-9BBE-439C-8FC0-9CF897C730B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419D-A532-4207-8C48-661B411BDF4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AD61-9398-4102-AC81-38DCD705BAE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BE4D-C452-4CC2-914F-38C8CF0647C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2BA3-1875-4BE9-A4B9-FDCDA8E4908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63"/>
          <p:cNvSpPr/>
          <p:nvPr/>
        </p:nvSpPr>
        <p:spPr>
          <a:xfrm>
            <a:off x="647640" y="61977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111-0781-451D-85A3-DB8496708E5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5F81-0253-4FAE-8306-9C35306A806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6AFE-FDCB-40D6-80D9-772A73AAE70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CCEA-1C71-4F84-9FC3-0DC79110922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876A-15CF-454A-A121-FD58DB2129D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FBFD-09B8-47C7-A672-549E611E318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D8CD-CBB6-447B-85E1-7DD3E2A90B8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1532-8CDD-4D49-BDC0-CED260BEED8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A0E0-56F3-425F-A9FD-330F8D0A6A6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FB71-8BE6-4455-B2F6-7D6E8254B3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0CD2-3E17-4DC7-986B-7DF64701207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D2D-C5C0-4876-ACC3-11454F53BCF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60B-AC32-476C-BD93-2B00FBB6278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#SekretaerinnenVonStuder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SusanneWint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58E2-7AF1-43A0-BCA3-E95B8DACD84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DA81-A527-4062-AADC-ECC116CAAF7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ADBF-ABFF-4473-AD33-A0EFEFCAEB3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about="#AngehoerigeAG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A9DE-2A90-45A2-8801-C1C9132F861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A174-8D67-41D6-BF14-49CC385604C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C480-20CC-453E-9708-32009BC02F6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024F-13DE-4BE9-B1F9-31D420A9179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5518-348F-4CF1-AB8D-B6D6A2D8F34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B67-9A5F-435D-9220-1A8D8C8AE1B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0E88-2CEF-4A26-BDBE-4576942A6F8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951E-5B0C-438E-9F0D-BA44FF85BA2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0C5-9C75-4D1E-BCAC-334A0737E0B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E959-93EE-4EB1-8F72-452D4AA52F1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389-2ABD-4354-8488-36359936DC4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#RudiStuder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0722-2969-4656-917F-5BF8FF81EAC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B091-AABF-45DF-BE66-507C775F65C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9EED-3BF2-44BC-B4B2-5281C22D2A8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2D0D-89F3-4119-B652-E7EC0BCE74B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C2B2-451B-43BC-8817-D113B0A014B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431A-2CF9-422C-A738-2887D685419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641D-A6D5-4A53-84BB-6F61B3ECF89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BED9-5E72-45CB-99C6-73D9CDBC94E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8D7C-DBF0-4C3A-BAE9-5AB777E293F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3731-1452-4AE9-B3A1-A234E48EED9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F1AF-F39F-4820-993D-3166F023A98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D054-9223-4FDD-8D54-FA401479D79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810B-B9AB-4C83-8A0F-8DDFD849FB6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7D0-361D-4E79-A1CC-2AF7730EED0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EB7B-7FA0-43D1-940B-6C2700A7734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9438-DF2B-4B5D-AD02-7A22470BF55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DE1F-0FA9-4438-9F0A-55264A8B67B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1600-45A3-4D2F-9F72-B5F70382D9C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A40A-6B56-4F84-8DB7-11814603A06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FA55-6A42-4EC7-9DED-129B49E2F0C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B45B-E9CA-4021-AE77-40379CDED72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84CE-D053-46D5-AC28-D7E97D48F51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DB89-DAAA-47CC-ABEB-BBA8D8BEA91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41DD-E091-444E-AF56-77EA22C926A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33C6-54FD-4006-AAE2-D0FA51309E3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87C5-6A22-4D88-947C-43D18E2272E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90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1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4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6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7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400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2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3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5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6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8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6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7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8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9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1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2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3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4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3"/>
          <p:cNvSpPr/>
          <p:nvPr/>
        </p:nvSpPr>
        <p:spPr>
          <a:xfrm>
            <a:off x="8048160" y="3338640"/>
            <a:ext cx="150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7958520" y="4076640"/>
            <a:ext cx="2347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6718680" y="2247840"/>
            <a:ext cx="224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5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6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9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1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2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5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8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1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3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4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6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7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9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60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2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4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5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7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1972080" y="7340760"/>
            <a:ext cx="3201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9ACF-1670-48B4-85D2-48DD55F647D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2:35:37Z</dcterms:created>
  <dc:creator/>
  <dc:description/>
  <cp:keywords/>
  <dc:language>en-US</dc:language>
  <cp:lastModifiedBy>Sebastian Rudolph</cp:lastModifiedBy>
  <dcterms:modified xsi:type="dcterms:W3CDTF">2008-12-02T22:47:49Z</dcterms:modified>
  <cp:revision>2</cp:revision>
  <dc:subject/>
  <dc:title>Grundlagen Semantic Web</dc:title>
</cp:coreProperties>
</file>